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220C8-C8A6-4BAA-8A02-345F900A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34A85-7CFB-4D6E-982E-E9D710A4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0A832-8021-4815-A3C6-F682B725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5E93E-94B8-42C7-B9A4-41186484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3795-97BB-4284-9A7E-FBA1EEF0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CAF7-85F5-4327-A976-DBC89B3C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123E-D65C-4B9E-8C18-7038EFA1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58FF-ED94-40D6-A650-BBEB69ED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5F78-247B-4DD3-9494-EAACA38C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1DEF-3809-4E3E-8B91-3E50DBD5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575B-4F37-4A36-984B-72E059D8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82278-5B9B-48C1-8608-8ABDD371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90A6-9604-42E5-8D49-858AF7B5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8167-C31B-479C-8F4B-89BF5244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B192-BDEF-4F3E-8A9E-79B77BCC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39DC-F8E0-445E-8B84-20BDC256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F328-E3E2-4671-ACB0-369A58A7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E4D2E-BB5E-4E03-8898-B1AD23B6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9B65A-F2FB-49B9-826B-28507D13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C028E-6B42-4F90-A8DA-3CA40CF2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292D4-7700-4410-B5F0-32A141A0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218A6-7CCD-42EA-AE0D-23BE101F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15ACC-6C96-4BC5-8608-F3BD1BCA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A7703-D291-4453-AE7B-154E4985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24653-4EFC-4BF1-BE9E-0951F394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9FC36-CD49-4BB2-B894-C2BDA36E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6C252-0FBD-45D5-AB7A-DC879FE2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6FBCD-281D-41DA-BED7-678A44D3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3DBA2-9C16-4FD7-AD89-526EDEA4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71EBC-6194-40D0-BD51-71FDF2F0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2F3AF-D757-4F7E-B327-62D846F8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FA7E1-A0A9-4C1F-BA89-755E2DEC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139A7-E087-4BDB-81B2-B9A6486F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2AB80-EFC2-4E74-8B35-474E3420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A8E2C-7491-4B2D-B1E9-CF766C22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BE7E4-324D-471B-A4B8-F4C0FBB7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220AD-CB90-43DB-AC97-90EED357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1F765-93DB-4905-81BF-4DB360C1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50A8A-D8CC-44B8-B1A8-90943B5B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35B29-F51D-440C-A3A6-72759372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DA5CA-5A43-4FBC-AAB1-BBC918BB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A8B5C-5A81-4273-9679-9A3F0F95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BDD15-A9F0-4E07-8D2C-4C703284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F6C46-B296-4A32-8B07-BB5A47E6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AF09B-DE0E-4222-A712-A52FFA2A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8E9F1-FF68-4EBA-B03E-F0805346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BC74F-2F4F-494E-8722-287F58C9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A81D1-A07E-483C-B196-5D90632E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61BB-8C2D-4CE1-AED6-9DE57F088FB9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4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8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0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1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A8B6-1769-4D5E-987C-142643984A22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E4C5-003F-43B8-A9A4-582E7E3185E8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05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08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09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5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22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33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34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6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8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39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7803-D4C8-495E-8747-F9974DFA2A7C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03640" y="115920"/>
            <a:ext cx="5324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cc"/>
                </a:solidFill>
                <a:latin typeface="Tahoma"/>
              </a:rPr>
              <a:t>Rzeźbiotwórcza rola fal morskich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83" name="Picture 4" descr="fala"/>
          <p:cNvPicPr/>
          <p:nvPr/>
        </p:nvPicPr>
        <p:blipFill>
          <a:blip r:embed="rId1"/>
          <a:stretch/>
        </p:blipFill>
        <p:spPr>
          <a:xfrm>
            <a:off x="179280" y="2133720"/>
            <a:ext cx="504036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Co to jest mierzeja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Verdana"/>
              </a:rPr>
              <a:t>Mierzeja – 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Zbudowana z piasku bariera wystająca ponad wodę. Oddziela zatokę od otwartego morz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Powstawanie mierze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2" name="Object 8"/>
          <p:cNvGraphicFramePr/>
          <p:nvPr/>
        </p:nvGraphicFramePr>
        <p:xfrm>
          <a:off x="0" y="2276640"/>
          <a:ext cx="9110520" cy="26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9110520" cy="26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2708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Typy wybrzeż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5" descr="wybrzeze_dalmatynskie"/>
          <p:cNvPicPr/>
          <p:nvPr/>
        </p:nvPicPr>
        <p:blipFill>
          <a:blip r:embed="rId1"/>
          <a:stretch/>
        </p:blipFill>
        <p:spPr>
          <a:xfrm>
            <a:off x="1692360" y="1413000"/>
            <a:ext cx="5545080" cy="49971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75708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dalmatyńsk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riasow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8" name="Picture 5" descr="wybrzeze_riasowe"/>
          <p:cNvPicPr/>
          <p:nvPr/>
        </p:nvPicPr>
        <p:blipFill>
          <a:blip r:embed="rId1"/>
          <a:stretch/>
        </p:blipFill>
        <p:spPr>
          <a:xfrm>
            <a:off x="2195640" y="1700280"/>
            <a:ext cx="460836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fiordow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0" name="Picture 6" descr="wybrzeze_fiordowe"/>
          <p:cNvPicPr/>
          <p:nvPr/>
        </p:nvPicPr>
        <p:blipFill>
          <a:blip r:embed="rId1"/>
          <a:stretch/>
        </p:blipFill>
        <p:spPr>
          <a:xfrm>
            <a:off x="2411280" y="1916280"/>
            <a:ext cx="432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szkierow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2" name="Picture 6" descr="wybrzeze_szkierowe"/>
          <p:cNvPicPr/>
          <p:nvPr/>
        </p:nvPicPr>
        <p:blipFill>
          <a:blip r:embed="rId1"/>
          <a:stretch/>
        </p:blipFill>
        <p:spPr>
          <a:xfrm>
            <a:off x="2411280" y="1916280"/>
            <a:ext cx="39513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mierzejow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15" name="Object 10"/>
          <p:cNvGraphicFramePr/>
          <p:nvPr/>
        </p:nvGraphicFramePr>
        <p:xfrm>
          <a:off x="2523960" y="1770120"/>
          <a:ext cx="40960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960" y="1770120"/>
                    <a:ext cx="40960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9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limanow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8" name="Picture 6" descr="LIMAN"/>
          <p:cNvPicPr/>
          <p:nvPr/>
        </p:nvPicPr>
        <p:blipFill>
          <a:blip r:embed="rId1"/>
          <a:stretch/>
        </p:blipFill>
        <p:spPr>
          <a:xfrm>
            <a:off x="2195640" y="2492280"/>
            <a:ext cx="483696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2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Do zapamięta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Falowanie wody jest zazwyczaj wynikiem oddziaływania wiatru na jej powierzchni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Strome urwisko powstałe w wyniku podcinania brzegu przez fale to klif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Akumulacyjna działalność fal prowadzi do powstania mierzei, plaż, jezior przybrzeżnych oraz do wyrównania linii wybrzeż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8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88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96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4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Fale morskie to bardzo silny żywioł. Powszechnie wiadomo, że duże sztormy mogą powodować ogromne straty. Ale również małe fale morskie nieustannie zmieniają rzeźbę powierzchni Ziem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Jak powstaje fala morska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Uderzenia wiatru w taflę wody wywołują drgania cząsteczek, powoduje to zmianę poziomu wody i powstanie fali. Im większa siła uderzenia tym fala wyższ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Siły grawitacyjne Słońca i Księżyca powodują pływy morski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7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5472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Falowan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8" name="Picture 5" descr="images"/>
          <p:cNvPicPr/>
          <p:nvPr/>
        </p:nvPicPr>
        <p:blipFill>
          <a:blip r:embed="rId1"/>
          <a:stretch/>
        </p:blipFill>
        <p:spPr>
          <a:xfrm>
            <a:off x="3924360" y="2565360"/>
            <a:ext cx="4402080" cy="32990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7"/>
          <p:cNvSpPr/>
          <p:nvPr/>
        </p:nvSpPr>
        <p:spPr>
          <a:xfrm>
            <a:off x="6145200" y="616572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Brzeg Bałtyk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Verdana"/>
              </a:rPr>
              <a:t>Falowanie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to oscylacyjny ruch cząstek wody po orbitach kołowych lub eliptycznych. Najczęstszą przyczyną falowania jest tarcie wiatru o powierzchnię wody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0" descr="220px-Wave_motion-i18n-mod"/>
          <p:cNvPicPr/>
          <p:nvPr/>
        </p:nvPicPr>
        <p:blipFill>
          <a:blip r:embed="rId1"/>
          <a:stretch/>
        </p:blipFill>
        <p:spPr>
          <a:xfrm>
            <a:off x="2340000" y="476280"/>
            <a:ext cx="4576680" cy="41608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1"/>
          <p:cNvSpPr/>
          <p:nvPr/>
        </p:nvSpPr>
        <p:spPr>
          <a:xfrm>
            <a:off x="250920" y="4941720"/>
            <a:ext cx="46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1 – kierunek przemieszczania się fali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2 – grzbiet fali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3 – wklęśnięcie fal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A - orbita kołow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B - orbita eliptyczn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14716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cecff"/>
                </a:solidFill>
                <a:latin typeface="Arial"/>
              </a:rPr>
              <a:t>Co to jest Abrazja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539640" y="335772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Abrazja (erozja morska)-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        procesy niszczące brzeg morski przez wody morskie i oceaniczne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Co to jest klif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Verdana"/>
              </a:rPr>
              <a:t>Klif (faleza)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– urwisko na brzegu morza powstałe w wyniku podcinania brzegu przez fa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220px-14klif9maly"/>
          <p:cNvPicPr/>
          <p:nvPr/>
        </p:nvPicPr>
        <p:blipFill>
          <a:blip r:embed="rId1"/>
          <a:stretch/>
        </p:blipFill>
        <p:spPr>
          <a:xfrm>
            <a:off x="2556000" y="765000"/>
            <a:ext cx="4027320" cy="48517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5"/>
          <p:cNvSpPr/>
          <p:nvPr/>
        </p:nvSpPr>
        <p:spPr>
          <a:xfrm>
            <a:off x="1506960" y="596412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Klif w Orłowie (Gdyni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7:00:38Z</dcterms:created>
  <dc:creator>Mrozowicz</dc:creator>
  <dc:description/>
  <dc:language>en-US</dc:language>
  <cp:lastModifiedBy>q</cp:lastModifiedBy>
  <dcterms:modified xsi:type="dcterms:W3CDTF">2013-03-16T14:26:36Z</dcterms:modified>
  <cp:revision>6</cp:revision>
  <dc:subject/>
  <dc:title>Lądy i Wody</dc:title>
</cp:coreProperties>
</file>